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move the slid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16AF-092F-40F6-80C4-2D6D68A1C08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39A5-CEB8-4E0B-8F91-E32EC6C32E7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ide 0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BD3-9674-4670-8C49-29AC67C5CB3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ide 0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0DA-77A7-401D-AF12-0AE8F580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AFC-50D7-471E-B1E0-A956B96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C42-44E7-4A6B-AC91-A5D9D38C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B3A-5B4B-41C6-B63A-161ED30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C13-5676-4955-90CE-355A306B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F78-4A57-41BC-9C13-1401164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BE5-B1AA-48F6-911E-53B0524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CDB-6BDC-4CD1-9FB6-4813118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A61-EC5D-44C3-8AB4-FD1D8D5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7AE-7E04-4655-B406-58E9AF2E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335-367C-4EC6-92C1-E18A97A6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B00-2D2F-44A9-B803-D76CE53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5428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1640" y="148428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2692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5428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1640" y="4042800"/>
            <a:ext cx="25970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3640" y="27468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0440" y="404280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26748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0440" y="1484280"/>
            <a:ext cx="3936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6920" y="4042800"/>
            <a:ext cx="80661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A1D4-D332-44A4-8B5C-A83269A58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"/>
          <p:cNvSpPr/>
          <p:nvPr/>
        </p:nvSpPr>
        <p:spPr>
          <a:xfrm>
            <a:off x="270000" y="260280"/>
            <a:ext cx="8694720" cy="1008000"/>
          </a:xfrm>
          <a:prstGeom prst="rect">
            <a:avLst/>
          </a:prstGeom>
          <a:solidFill>
            <a:srgbClr val="72a1d0"/>
          </a:solidFill>
          <a:ln w="1908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755640" y="1390680"/>
            <a:ext cx="82090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GTKTBB"/>
          <p:cNvPicPr/>
          <p:nvPr/>
        </p:nvPicPr>
        <p:blipFill>
          <a:blip r:embed="rId2"/>
          <a:stretch/>
        </p:blipFill>
        <p:spPr>
          <a:xfrm>
            <a:off x="92160" y="5516640"/>
            <a:ext cx="1368360" cy="12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e7"/>
            </a:outerShdw>
          </a:effectLst>
        </p:spPr>
      </p:pic>
      <p:sp>
        <p:nvSpPr>
          <p:cNvPr id="54" name="Text Box 27"/>
          <p:cNvSpPr/>
          <p:nvPr/>
        </p:nvSpPr>
        <p:spPr>
          <a:xfrm>
            <a:off x="1547640" y="6453360"/>
            <a:ext cx="36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strella"/>
              </a:rPr>
              <a:t>The Story of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GTKTBB"/>
          <p:cNvPicPr/>
          <p:nvPr/>
        </p:nvPicPr>
        <p:blipFill>
          <a:blip r:embed="rId2"/>
          <a:stretch/>
        </p:blipFill>
        <p:spPr>
          <a:xfrm>
            <a:off x="250920" y="3500280"/>
            <a:ext cx="3097080" cy="287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06840" indent="-37584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2" marL="12492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3" marL="159192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4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5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6" marL="1935000" indent="-1918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Senate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906560" y="260280"/>
            <a:ext cx="6769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The Stor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SenateCondensed"/>
              </a:rPr>
              <a:t>of the Bib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824360" y="5877000"/>
            <a:ext cx="431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Minstrella"/>
              </a:rPr>
              <a:t>Sponsored by the Christadelp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oly%20Bible"/>
          <p:cNvPicPr/>
          <p:nvPr/>
        </p:nvPicPr>
        <p:blipFill>
          <a:blip r:embed="rId1"/>
          <a:stretch/>
        </p:blipFill>
        <p:spPr>
          <a:xfrm>
            <a:off x="4932360" y="3068640"/>
            <a:ext cx="3994200" cy="267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Biblical Creation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864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1480" indent="-411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Bible says . . 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 created the universe and all living thing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creation took six day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On the seventh day, God “rested”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 created for his own pleasure and glory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Bible does not say . . 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When God create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982440" indent="-407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How God create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75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Some passages supporting Creation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4452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Genesis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:1,7,16,21,25,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7,31; 2:1-4,9,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2; 3:1; 5:1-2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6:7; 7:4; 9:6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20:11; 31:17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4:32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Kings 19:15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hronicles 16:26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Chronicles 2:12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Nehemiah 9:6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8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b 9:8; 26:13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47640" y="1413000"/>
            <a:ext cx="309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salms 8:3; 33:6; 96:5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02:25; 104:2,30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36:5; 148:5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roverbs 3:19; 8:27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cclesiastes 3:11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40:26; 41:20; 42:5;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43:1,7; 45:8,12,18;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48:13; 65:17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eremiah 10:1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nah 1:9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lachi 2:10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227640" y="1413000"/>
            <a:ext cx="25146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tthew 19: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rk 13: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hn 1:3,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4: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omans 1:2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orinthians 11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phesians 3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Colossians 1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Timothy 4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ebrews 1:2,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Peter 3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evelation 4:11; 10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8093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1988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The laws [of physics] . . . seem themselves to be the product of exceedingly ingenious design . . .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[There] is for me powerful evidence that there is something going on behind it all . . . It seems as though somebody has fine-tuned nature's numbers to make the Universe. . . . The impression of design is overwhelming.”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 algn="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Professor Paul Davies 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 algn="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(Professor of Physics University of Adelaide)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1691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867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3900" spc="-1" strike="noStrike">
                <a:solidFill>
                  <a:srgbClr val="000000"/>
                </a:solidFill>
                <a:latin typeface="SenateCondensed"/>
              </a:rPr>
              <a:t>I think we must admit that the only acceptable explanation is creation. I know that this is anathema to physicists, as indeed it is to me, but we must not reject a theory that we do not like if the experimental evidence supports it.”</a:t>
            </a:r>
            <a:endParaRPr b="0" lang="en-US" sz="39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Professor H.S. Lipson, FRS,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Professor of Physics,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University of Manchester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5596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8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Our faith in the doctrine of evolution depends upon our reluctance to accept the antagonist doctrine of special creation.”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8928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.T.More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928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University of Cincinatti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8928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Dogma of Evolution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8645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96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Evolution is unproved and improvable, but we believe it because the only alternative is special creation, and that is unthinkable.”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Sir Arthur Keith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96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122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480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  “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Evolutionists may disagree on many things, but their commitment to atheism ensures their solid agreement on the non-existence of an intelligent creator.”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480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New Scientist, 5 3 1987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What Jesus Believed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God made Adam and Eve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19:4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God created the earth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rk 13:19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Adam was a literal man, not a myth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uke 3:38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Noah and the flood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24:37-39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First murder (Cain murdered Abel)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23:35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Lot and his wife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uke 17:28-29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Destruction of Sodom and Gomorrah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Luke 17:32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294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Marriage a God given institution 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atthew 19:5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Plausible creation models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Recent re-cre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Days of revelation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Days of divine command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Seventh Day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completed his work of creating in six days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On the seventh day he rested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Hebrew word translated “rested” is </a:t>
            </a:r>
            <a:r>
              <a:rPr b="0" i="1" lang="en-US" sz="3200" spc="-1" strike="noStrike">
                <a:solidFill>
                  <a:srgbClr val="000000"/>
                </a:solidFill>
                <a:latin typeface="SenateCondensed"/>
              </a:rPr>
              <a:t>shabath</a:t>
            </a: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, from which the word “Sabbath” comes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set apart the seventh day and blessed it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command to keep the Sabbath came 2500 years later as part of the law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-379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 New Testament does not command Sabbath keeping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Aims of the Cours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Help you fit Bible events into the overall story of the Bible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Continue to become more familiar with the Bible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 Learn the meaning 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76212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of some Bible words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43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SenateCondensed"/>
              </a:rPr>
              <a:t>Genesis</a:t>
            </a:r>
            <a:r>
              <a:rPr b="0" lang="en-US" sz="5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SenateCondensed"/>
              </a:rPr>
              <a:t>2-3: The Garden of Eden</a:t>
            </a:r>
            <a:endParaRPr b="0" lang="en-US" sz="56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0010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Can you identify the location of Eden from the details give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does “The knowledge of good and evil” mea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steps led to the first si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y do you think God gave the rule to Adam? 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as there only one rule given to Adam and Eve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Did God forgive Adam and Eve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343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God said that Adam and Eve would die when they ate the fruit (2:17). Yet they didn’t die until many years later. How can you explain this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ite marble"/>
          <p:cNvPicPr/>
          <p:nvPr/>
        </p:nvPicPr>
        <p:blipFill>
          <a:blip r:embed="rId1"/>
          <a:stretch/>
        </p:blipFill>
        <p:spPr>
          <a:xfrm>
            <a:off x="-762120" y="380880"/>
            <a:ext cx="10134720" cy="6096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29718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enateCondensed"/>
              </a:rPr>
              <a:t>Mediterranean</a:t>
            </a:r>
            <a:r>
              <a:rPr b="1" lang="en-US" sz="36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enateCondensed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8960" y="59436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enateCondensed"/>
              </a:rPr>
              <a:t>Red Sea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26708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uph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867280" y="166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ig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23888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is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0199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530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vi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657600" y="4267080"/>
            <a:ext cx="2819520" cy="129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581280" y="4191120"/>
            <a:ext cx="2819520" cy="1295280"/>
          </a:xfrm>
          <a:prstGeom prst="rect">
            <a:avLst/>
          </a:prstGeom>
          <a:solidFill>
            <a:srgbClr val="988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3505320" y="4191120"/>
            <a:ext cx="2971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Cradle    of Civilis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9520" y="380880"/>
            <a:ext cx="857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creation of Adam and Ev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24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Adam made from earth. Because of his later sin, he returned to earth. (Gen 3:19)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God breathed into Adam the “breath of life” (Gen 2:7). It is this breath of life which keeps us all alive, including animals and birds. (Job 33:4; Gen 7:15,22; Psalm 104:29)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 Eve made from Adam. Presented by God to Adam as  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a companion and wife. (Gen 2:23).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Garden of Eden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9408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placed Adam and Eve in the Garden of Eden to take care of it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They may eat from any tree in the garden except the “tree of the knowledge of good and evil” in the middle of the garden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A snake tempts Eve to eat of the forbidden fruit and she does. Adam also eats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-411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God confronts them with their sin.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11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Judgement and Punishment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312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443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snake was cursed (Gen 3:14-15):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crawl on belly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nmity between people and snake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woman was cursed (Gen 3:16):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ncreased pain in child-bear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sire for husband and subject to husb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(see 1 Tim 2:12-14)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nateCondensed"/>
              </a:rPr>
              <a:t>The man was cursed (Gen 3:17-19):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ave to work hard to eat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1058040" indent="-43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eturn to dust (applied to Eve also)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covering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882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2480" indent="-402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Fig leaves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rovided by Adam and Eve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did not cover si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-40248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nateCondensed"/>
              </a:rPr>
              <a:t>Skins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provided by Go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960840" indent="-39852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nateCondensed"/>
              </a:rPr>
              <a:t>sacrifice covered sin (Hebrews 9:22)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marL="4024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Introduction of sin and death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169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8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SenateCondensed"/>
              </a:rPr>
              <a:t>Romans 5:14</a:t>
            </a:r>
            <a:endParaRPr b="0" lang="en-US" sz="36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Sin entered into the worl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From then on, sin reigned like a king over mankind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And death through si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Death was a penalty imposed by God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And so death passed upon all men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Adam's descendants inherited his mortality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nateCondensed"/>
              </a:rPr>
              <a:t>For all have sinned</a:t>
            </a:r>
            <a:endParaRPr b="0" lang="en-US" sz="3200" spc="-1" strike="noStrike">
              <a:solidFill>
                <a:srgbClr val="000000"/>
              </a:solidFill>
              <a:latin typeface="SenateCondensed"/>
            </a:endParaRPr>
          </a:p>
          <a:p>
            <a:pPr lvl="1" marL="104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- We are also mortal because of our sin.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promise of hop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3141360"/>
            <a:ext cx="705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offspring of the snake: sin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offspring of the woman: Jesus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Jesus delivered a fatal blow to sin when he died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But he had his own “heel” bruised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1484280"/>
            <a:ext cx="81536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nateCondensed"/>
              </a:rPr>
              <a:t>Genesis 3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nateCondensed"/>
              </a:rPr>
              <a:t>The enmity between people and snakes symbolizes the struggle between Jesus and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The end of the curse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408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39120" indent="-3391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Romans 8:21-22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Isaiah 11:8-9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-339120">
              <a:lnSpc>
                <a:spcPct val="11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Isaiah 65:20-25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nateCondensed"/>
              </a:rPr>
              <a:t>No more a curse, but a blessing on God's people and their offspring.</a:t>
            </a: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  <a:p>
            <a:pPr marL="33912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Some Bible Words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35733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God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Lord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LORD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covet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361800" indent="-36180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in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2360" y="1773360"/>
            <a:ext cx="320832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temptation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angel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seraphim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  <a:p>
            <a:pPr marL="420840" indent="-420840">
              <a:lnSpc>
                <a:spcPct val="115000"/>
              </a:lnSpc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nateCondensed"/>
              </a:rPr>
              <a:t>cherubim</a:t>
            </a:r>
            <a:endParaRPr b="0" lang="en-US" sz="44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765000" y="4979880"/>
            <a:ext cx="1511640" cy="144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Course Outline </a:t>
            </a:r>
            <a:r>
              <a:rPr b="0" lang="en-US" sz="2400" spc="-1" strike="noStrike">
                <a:solidFill>
                  <a:srgbClr val="ffffff"/>
                </a:solidFill>
                <a:latin typeface="SenateCondensed"/>
              </a:rPr>
              <a:t>(God willing)</a:t>
            </a:r>
            <a:endParaRPr b="0" lang="en-US" sz="2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461960"/>
            <a:ext cx="7921440" cy="491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 fontScale="94000"/>
          </a:bodyPr>
          <a:p>
            <a:pPr marL="5072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enateCondense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enateCondensed"/>
              </a:rPr>
              <a:t>An 8-week course looking at the major people and events in the Bible and how they fit together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God, creation and the first sin.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Abraham: the man who was promised the world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Moses and the law given to Israel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judges and kings of Israel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Captivity in Babylon and return to Jerusalem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Jesus Christ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early church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lvl="1" marL="787680" indent="-357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SenateCondensed"/>
              <a:buAutoNum type="arabicPeriod"/>
              <a:tabLst>
                <a:tab algn="l" pos="636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The Kingdom of God (?)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47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5480" y="274680"/>
            <a:ext cx="8337600" cy="99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Next Week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11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SenateCondensed"/>
              </a:rPr>
              <a:t>Abraham: the man who was promised the world</a:t>
            </a:r>
            <a:endParaRPr b="0" lang="en-US" sz="66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222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nateCondensed"/>
              </a:rPr>
              <a:t>People we will consider in this course</a:t>
            </a:r>
            <a:endParaRPr b="0" lang="en-US" sz="48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Jesus Christ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Adam and Eve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Abraham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Moses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David, king of Israel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  <a:p>
            <a:pPr marL="452520" indent="-45252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enateCondensed"/>
              </a:rPr>
              <a:t>Paul the Apostle</a:t>
            </a:r>
            <a:endParaRPr b="0" lang="en-US" sz="3400" spc="-1" strike="noStrike">
              <a:solidFill>
                <a:srgbClr val="000000"/>
              </a:solidFill>
              <a:latin typeface="SenateCondensed"/>
            </a:endParaRPr>
          </a:p>
        </p:txBody>
      </p:sp>
      <p:pic>
        <p:nvPicPr>
          <p:cNvPr id="150" name="Picture 6" descr="Holy%20Bible"/>
          <p:cNvPicPr/>
          <p:nvPr/>
        </p:nvPicPr>
        <p:blipFill>
          <a:blip r:embed="rId7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36960" y="141120"/>
            <a:ext cx="9504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Juice IT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79280" y="189000"/>
            <a:ext cx="1440000" cy="1800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50920" y="260280"/>
            <a:ext cx="1296720" cy="1656000"/>
          </a:xfrm>
          <a:prstGeom prst="rect">
            <a:avLst/>
          </a:prstGeom>
          <a:solidFill>
            <a:srgbClr val="72a1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24000" y="333360"/>
            <a:ext cx="115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68360" y="76320"/>
            <a:ext cx="86364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SenateCondensed"/>
              </a:rPr>
              <a:t>1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835280" y="404640"/>
            <a:ext cx="69134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SenateCondensed"/>
              </a:rPr>
              <a:t>God, creation and the first s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835280" y="640080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Minstrella"/>
              </a:rPr>
              <a:t>The Story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Holy%20Bible"/>
          <p:cNvPicPr/>
          <p:nvPr/>
        </p:nvPicPr>
        <p:blipFill>
          <a:blip r:embed="rId1"/>
          <a:stretch/>
        </p:blipFill>
        <p:spPr>
          <a:xfrm>
            <a:off x="5867280" y="4640400"/>
            <a:ext cx="3186360" cy="21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world"/>
          <p:cNvPicPr/>
          <p:nvPr/>
        </p:nvPicPr>
        <p:blipFill>
          <a:blip r:embed="rId1"/>
          <a:stretch/>
        </p:blipFill>
        <p:spPr>
          <a:xfrm>
            <a:off x="1895400" y="0"/>
            <a:ext cx="72486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God’s purp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460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the earth will be filled with the knowledge of the glory of the Lord as the waters cover the se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(Habakkuk 2: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aracteristics of God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2376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CHARACTERISTIC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Creator &amp; sustainer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Lov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Sinles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Lawgiver &amp; Judge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Supreme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48000" y="1413000"/>
            <a:ext cx="3013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OLD TESTAMENT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Genes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Psalm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;5-31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32:6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15:11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34:6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32:4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33:2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43:10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Deuteronomy 33:27;       Isaiah 40:28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483240" y="1413000"/>
            <a:ext cx="266076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NEW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17:24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orinthians 8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Peter 1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hn 3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ames 1: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ames 4:12; Hebrews12: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Timothy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Timothy 6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Condensed"/>
              </a:rPr>
              <a:t>Characteristics of God</a:t>
            </a:r>
            <a:endParaRPr b="0" lang="en-US" sz="54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2521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CHARACTERISTIC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ngered by sin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Forgiving/justify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ealou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ll knowing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resent everywhere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Hears prayer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Gives &amp; keeps promises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ll powerful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798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6360" y="1412640"/>
            <a:ext cx="2950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OLD TESTAMENT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 Chronicles 24:18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: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3:25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Exodus 20:5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44:6-8; 46:10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salm 139:7-1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Psalm 65:2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oshua 21:45; 23:15-16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Isaiah 45:24-28;  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  <a:p>
            <a:pPr marL="33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Jerem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: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,</a:t>
            </a: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SenateCondensed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443640" y="1413000"/>
            <a:ext cx="23763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enateCondensed"/>
              </a:rPr>
              <a:t>NEW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omans 1: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Romans 8: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Corinthians 10:21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1 John 3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17:24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Matthew 6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Acts 13:32-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nateCondensed"/>
              </a:rPr>
              <a:t>Luke 1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421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Genesis</a:t>
            </a: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SenateCondensed"/>
              </a:rPr>
              <a:t>1. Six days of creation</a:t>
            </a:r>
            <a:endParaRPr b="0" lang="en-US" sz="6000" spc="-1" strike="noStrike">
              <a:solidFill>
                <a:srgbClr val="ffffff"/>
              </a:solidFill>
              <a:latin typeface="Senate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was the earth like before the first day of creatio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Is it said concerning every day that “God saw that it was good”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is the earth said to have first brought forth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How could the sun, moon and stars be created on the fourth day, yet there be evenings and mornings from the first day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Is Eve mentioned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What food was assigned to ma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SenateCondensed"/>
              </a:rPr>
              <a:t> Over what part of creation did man have dominion?</a:t>
            </a:r>
            <a:endParaRPr b="0" lang="en-US" sz="2800" spc="-1" strike="noStrike">
              <a:solidFill>
                <a:srgbClr val="000000"/>
              </a:solidFill>
              <a:latin typeface="SenateCondensed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5:22:34Z</dcterms:created>
  <dc:creator>Paul Bailye</dc:creator>
  <dc:description>paul.bailye@gmail.com</dc:description>
  <dc:language>en-US</dc:language>
  <cp:lastModifiedBy>Rob Hyndman</cp:lastModifiedBy>
  <dcterms:modified xsi:type="dcterms:W3CDTF">2008-05-19T11:24:20Z</dcterms:modified>
  <cp:revision>69</cp:revision>
  <dc:subject/>
  <dc:title>GTKTBB</dc:title>
</cp:coreProperties>
</file>